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jpeg" ContentType="image/jpeg"/>
  <Override PartName="/ppt/media/image4.wmf" ContentType="image/x-wmf"/>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9AE6B-4437-402A-BEBE-2D630BC74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18AD6-C3E8-464C-AB57-35AEBFDCD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3D0AE-140A-4307-8C4A-9D41796571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F1348-9A15-4DC3-B059-37E242602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BDB387-161F-444A-981D-F9A35E63F3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28610-868E-4F99-BEDA-C6AEF4831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BB260-28D1-4457-BA33-26C10B1C9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8D7BB-2617-4633-8D9D-3E8FAF044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A1475-CFE8-4A54-BB4D-03E3FCDCB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02B94-F9D6-4740-AFAA-4F85686E6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655E7-D59D-4883-9F07-A834CD52C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B90DC-EDE2-4453-9A3D-210506811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C27B7-695B-44B5-AF30-1849AAF4A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37255-593F-4517-88B9-91FA23783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33ECF-3900-4F9F-A87B-1183E17AFC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18CD4-F5FA-4258-A6D0-7ACB599F8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BFD283-983F-4BD3-A5CE-BC08C05F0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7D9C3-7C6D-4A52-A009-FBBDD71D0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CCB9C-B6B9-4099-9E1B-B71AB4598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21DB5-A69A-4136-B7D0-C66619B53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E33A3-5167-4A36-A541-3800D2151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08C5-0192-41AD-95BD-276278F8C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CDE4-11D2-4316-9E41-E5581D935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F0036-E542-4BC3-8460-85B428B255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B7B6-6859-4D38-8CC1-0B2AB6A06F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CC446-8E6C-4E88-92B5-2A048BABD5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Native Americans</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e 4- U.S. Social Studies</a:t>
            </a: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it Plan Summary</a:t>
            </a: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gain knowledge of the Native Americans and their contributions to society. This will be accomplished with technology based research, an art project, a sample of music and completed reports presented to the whole class. </a:t>
            </a:r>
            <a:endParaRPr b="0" lang="en-US" sz="3200" spc="-1" strike="noStrike">
              <a:solidFill>
                <a:srgbClr val="ffffff"/>
              </a:solidFill>
              <a:latin typeface="Times New Roman"/>
            </a:endParaRPr>
          </a:p>
        </p:txBody>
      </p:sp>
      <p:pic>
        <p:nvPicPr>
          <p:cNvPr id="124" name="" descr=""/>
          <p:cNvPicPr/>
          <p:nvPr/>
        </p:nvPicPr>
        <p:blipFill>
          <a:blip r:embed="rId1"/>
          <a:stretch/>
        </p:blipFill>
        <p:spPr>
          <a:xfrm>
            <a:off x="6248520" y="4743360"/>
            <a:ext cx="2057400" cy="1428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Essential Question</a:t>
            </a:r>
            <a:endParaRPr b="1" lang="en-US" sz="40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can we learn from Native Americans? </a:t>
            </a:r>
            <a:endParaRPr b="0" lang="en-US" sz="3200" spc="-1" strike="noStrike">
              <a:solidFill>
                <a:srgbClr val="ffffff"/>
              </a:solidFill>
              <a:latin typeface="Times New Roman"/>
            </a:endParaRPr>
          </a:p>
        </p:txBody>
      </p:sp>
      <p:pic>
        <p:nvPicPr>
          <p:cNvPr id="127" name="" descr=""/>
          <p:cNvPicPr/>
          <p:nvPr/>
        </p:nvPicPr>
        <p:blipFill>
          <a:blip r:embed="rId1"/>
          <a:stretch/>
        </p:blipFill>
        <p:spPr>
          <a:xfrm>
            <a:off x="3886200" y="4343400"/>
            <a:ext cx="1832040" cy="861840"/>
          </a:xfrm>
          <a:prstGeom prst="rect">
            <a:avLst/>
          </a:prstGeom>
          <a:ln w="0">
            <a:noFill/>
          </a:ln>
        </p:spPr>
      </p:pic>
      <p:pic>
        <p:nvPicPr>
          <p:cNvPr id="128" name="" descr=""/>
          <p:cNvPicPr/>
          <p:nvPr/>
        </p:nvPicPr>
        <p:blipFill>
          <a:blip r:embed="rId2"/>
          <a:stretch/>
        </p:blipFill>
        <p:spPr>
          <a:xfrm>
            <a:off x="914400" y="3886200"/>
            <a:ext cx="1935000" cy="2133720"/>
          </a:xfrm>
          <a:prstGeom prst="rect">
            <a:avLst/>
          </a:prstGeom>
          <a:ln w="0">
            <a:noFill/>
          </a:ln>
        </p:spPr>
      </p:pic>
      <p:pic>
        <p:nvPicPr>
          <p:cNvPr id="129" name="" descr=""/>
          <p:cNvPicPr/>
          <p:nvPr/>
        </p:nvPicPr>
        <p:blipFill>
          <a:blip r:embed="rId3"/>
          <a:stretch/>
        </p:blipFill>
        <p:spPr>
          <a:xfrm>
            <a:off x="6324480" y="3886200"/>
            <a:ext cx="1911600" cy="2060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it and Content Questions</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Unit Question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o are the Native American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were their lives lik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id the Europeans change the Native American cultur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do we think about Native Americans today?</a:t>
            </a:r>
            <a:endParaRPr b="0" lang="en-US" sz="2000" spc="-1" strike="noStrike">
              <a:solidFill>
                <a:srgbClr val="ffffff"/>
              </a:solidFill>
              <a:latin typeface="Times New Roman"/>
            </a:endParaRPr>
          </a:p>
        </p:txBody>
      </p:sp>
      <p:sp>
        <p:nvSpPr>
          <p:cNvPr id="132"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Content Question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you list the names of Native American tribe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Native American tribe is from our area?</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re did they live? What did they eat? What games did they play? What did they live in? Did they have music and dancing?</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legends and what are their purpose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was life like as a Native American chil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id they communicat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today’s culture what can we identify as Native America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Assessment</a:t>
            </a:r>
            <a:endParaRPr b="1" lang="en-US" sz="4400" spc="-1" strike="noStrike">
              <a:solidFill>
                <a:srgbClr val="feec94"/>
              </a:solidFill>
              <a:latin typeface="Times New Roman"/>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start with a KWL chart or Thinking Map to assess prior knowledge. Mid-unit we will use checklists, rubrics and scoring guide to make sure we are on schedule for completion. Finally, we will complete with an oral presentation rubrics, peer feedback, our final thinking map and completed projects.</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Projects approach</a:t>
            </a: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dents will make an Iroquois False Face Masks.</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will research the False Face masks before we star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will design a False Face mask on Microsoft Paint.</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listen to Native American music.</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My Goals</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nd ways to get my students to do more higher-order thinking.</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ercising sound reasoning in understanding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ticulating thoughts and ideas clearly and effectively through speaking and writing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o Enjoy while Learning</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1" name="" descr="morning stars"/>
          <p:cNvPicPr/>
          <p:nvPr/>
        </p:nvPicPr>
        <p:blipFill>
          <a:blip r:embed="rId1"/>
          <a:stretch/>
        </p:blipFill>
        <p:spPr>
          <a:xfrm>
            <a:off x="4100400" y="46080"/>
            <a:ext cx="505080" cy="24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2:59Z</dcterms:created>
  <dc:creator>Eldred Central School</dc:creator>
  <dc:description/>
  <dc:language>en-US</dc:language>
  <cp:lastModifiedBy>Eldred Central School</cp:lastModifiedBy>
  <dcterms:modified xsi:type="dcterms:W3CDTF">2010-06-30T19:53:57Z</dcterms:modified>
  <cp:revision>5</cp:revision>
  <dc:subject/>
  <dc:title>Native Americans</dc:title>
</cp:coreProperties>
</file>